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2536-2DDF-4920-90B0-945979B9B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3637-8887-4CDD-AD5D-DED3641D3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5346-A0FE-44D9-9C2B-7AC9B8455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49C9-53B2-4630-B666-77F6AD054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881D0-9A5A-4066-AEB2-DB88C91BA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509D4-2FD7-45F0-8984-D798ACC32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8931F-AA42-465F-88B3-6CEADD5DB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371C8-1018-440B-BB92-0AC66F9F9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55F9F-6E75-43AA-A2A2-12AD94D1B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8C99D-D8E0-460B-AB7C-DD3321979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A0AEA-3352-401F-987E-4EC7D05E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D2C7-2037-47F2-ADB9-41F5CE90C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4E55A-8E89-4AAF-A359-7D2EF4440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392B7-7D52-456D-A5C5-7C9CF053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76F1F-B417-45FB-A368-94B1901C6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7F8D2-EBB7-4D60-BAC3-11C0E8BCC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FF6D2-45CC-4E23-82F9-AA278201B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0D62-DC10-47C0-BAC0-80276A1EF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05EA-6E1D-4BEB-93AD-1A09732C8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7358-37D1-4478-A4B3-02662DAD5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AF9F-54E5-42D8-9E7A-7AE7C7C6A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AEF2-F180-4880-A748-C7BDB5CFF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86B0-3210-40D4-BDD8-EA095BF04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CB4B-77A7-4826-BFFF-722FA22B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6563F-5271-4E3C-95E5-F3FA6D77A90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F263D-2305-479C-A975-F9C6ECB3973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funsci.com/fun3_en/protists/exhibition.htm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vm.cfsan.fda.gov/~mow/intro.html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omain Eukaryot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ingdom Protis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580920" y="380880"/>
            <a:ext cx="25146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aeaea"/>
                </a:solidFill>
                <a:latin typeface="Tahoma"/>
              </a:rPr>
              <a:t>Amoeb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moeboid movement – use of psuedopo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d, water, can be parasit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0-20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 lo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ear, transpar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rcRect l="16873" t="30004" r="0" b="0"/>
          <a:stretch/>
        </p:blipFill>
        <p:spPr>
          <a:xfrm>
            <a:off x="5715000" y="1752480"/>
            <a:ext cx="2895480" cy="1828800"/>
          </a:xfrm>
          <a:prstGeom prst="rect">
            <a:avLst/>
          </a:prstGeom>
          <a:ln w="0">
            <a:noFill/>
          </a:ln>
        </p:spPr>
      </p:pic>
      <p:sp>
        <p:nvSpPr>
          <p:cNvPr id="158" name="TextBox 5"/>
          <p:cNvSpPr/>
          <p:nvPr/>
        </p:nvSpPr>
        <p:spPr>
          <a:xfrm rot="5400000">
            <a:off x="6792120" y="2962800"/>
            <a:ext cx="4038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http://www.keweenawalgae.mtu.edu/PROTOZOAN_IMAGES/rhizopoda/Ameoba_s25_swedetownplant2_402.jp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KINGSTON:Mountain Brook:protists:Lauren's Powerpoint Videos:video5.avi" descr=""/>
          <p:cNvPicPr/>
          <p:nvPr/>
        </p:nvPicPr>
        <p:blipFill>
          <a:blip r:embed="rId2"/>
          <a:stretch/>
        </p:blipFill>
        <p:spPr>
          <a:xfrm>
            <a:off x="4572000" y="3581280"/>
            <a:ext cx="4064040" cy="304812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4550760" y="6400800"/>
            <a:ext cx="303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http://www.youtube.com/watch?v=7pR7TNzJ_pA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30000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5" dur="1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505320" y="380880"/>
            <a:ext cx="213336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aeaea"/>
                </a:solidFill>
                <a:latin typeface="Tahoma"/>
              </a:rPr>
              <a:t>Volvox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2743200"/>
            <a:ext cx="3700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lorophy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nds ditches, shallow pudd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p to 1.5 mm in diame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Picture 9" descr="volvox2"/>
          <p:cNvPicPr/>
          <p:nvPr/>
        </p:nvPicPr>
        <p:blipFill>
          <a:blip r:embed="rId1"/>
          <a:stretch/>
        </p:blipFill>
        <p:spPr>
          <a:xfrm>
            <a:off x="4910040" y="1986120"/>
            <a:ext cx="3700440" cy="410184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10"/>
          <p:cNvSpPr/>
          <p:nvPr/>
        </p:nvSpPr>
        <p:spPr>
          <a:xfrm>
            <a:off x="4648320" y="624852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unbf.ca/vip/photos/volvox2.jp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What is a protist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“misfit” organis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eukaryotic cell(s), single celled or multi-cellul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 typ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nt-lik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imal-lik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ngus-lik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Our protist lab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will be examining some animal- like and plant-like protis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6" descr="amoeba_pseudopodi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47920" y="2133720"/>
            <a:ext cx="6253200" cy="4573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7"/>
          <p:cNvSpPr/>
          <p:nvPr/>
        </p:nvSpPr>
        <p:spPr>
          <a:xfrm>
            <a:off x="1447920" y="6400800"/>
            <a:ext cx="62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http://www.daviddarling.info/images/amoeba_pseudopodia.jp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TextBox 5"/>
          <p:cNvSpPr/>
          <p:nvPr/>
        </p:nvSpPr>
        <p:spPr>
          <a:xfrm>
            <a:off x="1066680" y="380880"/>
            <a:ext cx="65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do they mov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 cilia, flagella or pseudopods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7720" y="198072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Giardia lambl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taminated 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actose intolerance and diarrhe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Cryptosporidium parv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nimal fec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re diarrhea, vomit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Trypanosoma bruce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setse fly vect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ever, anemia, organ disorders, neurological deterior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1472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trol amount of debris in freshwate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ome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Parameciu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duce oxyg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lgae  like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Spirogyr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ymbiotic relationship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vide color and carbon source for cor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rming lichens which creates soi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1219320" y="1066680"/>
            <a:ext cx="2819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Harmfu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4572000" y="304920"/>
            <a:ext cx="4114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5486400" y="1066680"/>
            <a:ext cx="2608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Benefici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2209680" y="21276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roadway"/>
              </a:rPr>
              <a:t>Protists can be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Text Box 15"/>
          <p:cNvSpPr/>
          <p:nvPr/>
        </p:nvSpPr>
        <p:spPr>
          <a:xfrm>
            <a:off x="3657600" y="6324480"/>
            <a:ext cx="2133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The Bad Bug Boo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819520" y="380880"/>
            <a:ext cx="350496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aeaea"/>
                </a:solidFill>
                <a:latin typeface="Arial Unicode MS"/>
              </a:rPr>
              <a:t>Blepharism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4800600" y="4114800"/>
            <a:ext cx="4038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protist.i.hosei.ac.jp/PDB/Images/Ciliophora/Blepharisma/americanum/americanum.jp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8" descr="americanum"/>
          <p:cNvPicPr/>
          <p:nvPr/>
        </p:nvPicPr>
        <p:blipFill>
          <a:blip r:embed="rId1"/>
          <a:stretch/>
        </p:blipFill>
        <p:spPr>
          <a:xfrm>
            <a:off x="4800600" y="1828800"/>
            <a:ext cx="3695760" cy="2286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ili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50-300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 lo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se color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10" descr="Blepharisma"/>
          <p:cNvPicPr/>
          <p:nvPr/>
        </p:nvPicPr>
        <p:blipFill>
          <a:blip r:embed="rId2"/>
          <a:stretch/>
        </p:blipFill>
        <p:spPr>
          <a:xfrm>
            <a:off x="7020000" y="1219320"/>
            <a:ext cx="2124000" cy="1181160"/>
          </a:xfrm>
          <a:prstGeom prst="rect">
            <a:avLst/>
          </a:prstGeom>
          <a:ln w="0">
            <a:noFill/>
          </a:ln>
        </p:spPr>
      </p:pic>
      <p:pic>
        <p:nvPicPr>
          <p:cNvPr id="130" name="KINGSTON:Mountain Brook:protists:Lauren's Powerpoint Videos:video1.avi" descr=""/>
          <p:cNvPicPr/>
          <p:nvPr/>
        </p:nvPicPr>
        <p:blipFill>
          <a:blip r:embed="rId3"/>
          <a:stretch/>
        </p:blipFill>
        <p:spPr>
          <a:xfrm>
            <a:off x="533520" y="4114800"/>
            <a:ext cx="3708360" cy="2454120"/>
          </a:xfrm>
          <a:prstGeom prst="rect">
            <a:avLst/>
          </a:prstGeom>
          <a:ln w="0">
            <a:noFill/>
          </a:ln>
        </p:spPr>
      </p:pic>
      <p:sp>
        <p:nvSpPr>
          <p:cNvPr id="131" name="TextBox 7"/>
          <p:cNvSpPr/>
          <p:nvPr/>
        </p:nvSpPr>
        <p:spPr>
          <a:xfrm>
            <a:off x="417960" y="6324480"/>
            <a:ext cx="300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http://www.youtube.com/watch?v=AgXrjzKhh9k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0366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123720" y="15192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aeaea"/>
                </a:solidFill>
                <a:latin typeface="Tahoma"/>
              </a:rPr>
              <a:t>Paramecium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3" name="Picture 10" descr="parameciumdrop9_300"/>
          <p:cNvPicPr/>
          <p:nvPr/>
        </p:nvPicPr>
        <p:blipFill>
          <a:blip r:embed="rId1"/>
          <a:srcRect l="0" t="15422" r="6400" b="0"/>
          <a:stretch/>
        </p:blipFill>
        <p:spPr>
          <a:xfrm>
            <a:off x="990720" y="4343400"/>
            <a:ext cx="2465280" cy="18493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1"/>
          <p:cNvSpPr/>
          <p:nvPr/>
        </p:nvSpPr>
        <p:spPr>
          <a:xfrm>
            <a:off x="914400" y="6172200"/>
            <a:ext cx="259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101science.com/paramecium.ht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12" descr="parameciumcartoon"/>
          <p:cNvPicPr/>
          <p:nvPr/>
        </p:nvPicPr>
        <p:blipFill>
          <a:blip r:embed="rId2"/>
          <a:stretch/>
        </p:blipFill>
        <p:spPr>
          <a:xfrm>
            <a:off x="1219320" y="1600200"/>
            <a:ext cx="2228760" cy="27432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13"/>
          <p:cNvSpPr/>
          <p:nvPr/>
        </p:nvSpPr>
        <p:spPr>
          <a:xfrm rot="16200000">
            <a:off x="-410040" y="2696400"/>
            <a:ext cx="274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img.sparknotes.com/figures/0/0a2e2068b60c8b7f8cfbe21c26e87498/paramecium.gif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952520" y="1676520"/>
            <a:ext cx="3700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ili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eshwater environm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0-350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 lo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KINGSTON:Mountain Brook:protists:Lauren's Powerpoint Videos:video2.avi" descr=""/>
          <p:cNvPicPr/>
          <p:nvPr/>
        </p:nvPicPr>
        <p:blipFill>
          <a:blip r:embed="rId3"/>
          <a:stretch/>
        </p:blipFill>
        <p:spPr>
          <a:xfrm>
            <a:off x="5308560" y="3981600"/>
            <a:ext cx="3835440" cy="2876400"/>
          </a:xfrm>
          <a:prstGeom prst="rect">
            <a:avLst/>
          </a:prstGeom>
          <a:ln w="0">
            <a:noFill/>
          </a:ln>
        </p:spPr>
      </p:pic>
      <p:sp>
        <p:nvSpPr>
          <p:cNvPr id="139" name="TextBox 8"/>
          <p:cNvSpPr/>
          <p:nvPr/>
        </p:nvSpPr>
        <p:spPr>
          <a:xfrm>
            <a:off x="5293080" y="6611760"/>
            <a:ext cx="305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http://www.youtube.com/watch?v=ocv67Px49AA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24668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0" y="380880"/>
            <a:ext cx="45720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aeaea"/>
                </a:solidFill>
                <a:latin typeface="Tahoma"/>
              </a:rPr>
              <a:t>Stentor coeruleu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1" name="Picture 12" descr="stentor2"/>
          <p:cNvPicPr/>
          <p:nvPr/>
        </p:nvPicPr>
        <p:blipFill>
          <a:blip r:embed="rId1"/>
          <a:stretch/>
        </p:blipFill>
        <p:spPr>
          <a:xfrm>
            <a:off x="5181480" y="1676520"/>
            <a:ext cx="3656160" cy="3655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0" descr="stentor"/>
          <p:cNvPicPr/>
          <p:nvPr/>
        </p:nvPicPr>
        <p:blipFill>
          <a:blip r:embed="rId2"/>
          <a:srcRect l="5625" t="0" r="7500" b="0"/>
          <a:stretch/>
        </p:blipFill>
        <p:spPr>
          <a:xfrm>
            <a:off x="4572000" y="3809880"/>
            <a:ext cx="1827360" cy="23814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13"/>
          <p:cNvSpPr/>
          <p:nvPr/>
        </p:nvSpPr>
        <p:spPr>
          <a:xfrm rot="5400000">
            <a:off x="6613200" y="374796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pocketscope.com/Images/Gallery/stentor.jp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3353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ilia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reshwater lakes and strea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00-2000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 lo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umpet shaped blue to blue-gr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KINGSTON:Mountain Brook:protists:Lauren's Powerpoint Videos:video4.avi" descr=""/>
          <p:cNvPicPr/>
          <p:nvPr/>
        </p:nvPicPr>
        <p:blipFill>
          <a:blip r:embed="rId3"/>
          <a:stretch/>
        </p:blipFill>
        <p:spPr>
          <a:xfrm>
            <a:off x="685800" y="4038480"/>
            <a:ext cx="3530520" cy="2648160"/>
          </a:xfrm>
          <a:prstGeom prst="rect">
            <a:avLst/>
          </a:prstGeom>
          <a:ln w="0">
            <a:noFill/>
          </a:ln>
        </p:spPr>
      </p:pic>
      <p:sp>
        <p:nvSpPr>
          <p:cNvPr id="146" name="TextBox 7"/>
          <p:cNvSpPr/>
          <p:nvPr/>
        </p:nvSpPr>
        <p:spPr>
          <a:xfrm>
            <a:off x="781920" y="6400800"/>
            <a:ext cx="310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http://www.youtube.com/watch?v=rqD3m9hHhlo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26300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10" descr="euglena1"/>
          <p:cNvPicPr/>
          <p:nvPr/>
        </p:nvPicPr>
        <p:blipFill>
          <a:blip r:embed="rId1"/>
          <a:srcRect l="4688" t="4219" r="4688" b="4219"/>
          <a:stretch/>
        </p:blipFill>
        <p:spPr>
          <a:xfrm>
            <a:off x="2819520" y="2514600"/>
            <a:ext cx="2035080" cy="13716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505320" y="228240"/>
            <a:ext cx="2209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aeaea"/>
                </a:solidFill>
                <a:latin typeface="Tahoma"/>
              </a:rPr>
              <a:t>Euglen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9" name="Picture 6" descr="euglena"/>
          <p:cNvPicPr/>
          <p:nvPr/>
        </p:nvPicPr>
        <p:blipFill>
          <a:blip r:embed="rId2"/>
          <a:srcRect l="6452" t="7093" r="0" b="0"/>
          <a:stretch/>
        </p:blipFill>
        <p:spPr>
          <a:xfrm>
            <a:off x="533520" y="1447920"/>
            <a:ext cx="2530440" cy="22860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257440" y="2133720"/>
            <a:ext cx="3700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uglen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utrient rich freshwa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0-300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 lo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right gre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Text Box 7"/>
          <p:cNvSpPr/>
          <p:nvPr/>
        </p:nvSpPr>
        <p:spPr>
          <a:xfrm rot="5400000">
            <a:off x="-1197360" y="3100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infovisual.info/02/001_en.htm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838080" y="617220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KINGSTON:Mountain Brook:protists:Lauren's Powerpoint Videos:video3.avi" descr=""/>
          <p:cNvPicPr/>
          <p:nvPr/>
        </p:nvPicPr>
        <p:blipFill>
          <a:blip r:embed="rId3"/>
          <a:stretch/>
        </p:blipFill>
        <p:spPr>
          <a:xfrm>
            <a:off x="533520" y="3733920"/>
            <a:ext cx="4064040" cy="3047760"/>
          </a:xfrm>
          <a:prstGeom prst="rect">
            <a:avLst/>
          </a:prstGeom>
          <a:ln w="0">
            <a:noFill/>
          </a:ln>
        </p:spPr>
      </p:pic>
      <p:sp>
        <p:nvSpPr>
          <p:cNvPr id="154" name="TextBox 10"/>
          <p:cNvSpPr/>
          <p:nvPr/>
        </p:nvSpPr>
        <p:spPr>
          <a:xfrm>
            <a:off x="500760" y="6400800"/>
            <a:ext cx="3056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http://www.youtube.com/watch?v=JNwh67CPh-8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102735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4" dur="1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8T01:33:20Z</dcterms:created>
  <dc:creator>Lauren Fay</dc:creator>
  <dc:description/>
  <dc:language>en-US</dc:language>
  <cp:lastModifiedBy>Scott Holmes</cp:lastModifiedBy>
  <dcterms:modified xsi:type="dcterms:W3CDTF">2010-02-18T01:51:52Z</dcterms:modified>
  <cp:revision>19</cp:revision>
  <dc:subject/>
  <dc:title>Slide 1</dc:title>
</cp:coreProperties>
</file>